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D0E4-3DEC-48E8-9ECF-CDE3420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BD4-EAAD-40D4-AE9F-E39EA908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0FD-7613-4147-A1BA-C3BAAB93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F40-586C-4AC5-8C5A-F2CAFA48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42F-9AD5-4975-9168-E28B886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D8B8-AEA6-4FD5-A93B-07C3057D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141-0CDA-40ED-96E4-90325E3C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A78-91E5-4D27-A1A8-43A09066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52F-4681-497E-AD52-431E273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CB7-7A4D-4FC8-8896-E8F7FFD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C43-FADA-475D-843D-8DABC406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DA5-AEA1-40A2-A573-E27B80B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115D-797E-4739-8EF2-F7500E9D0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Week Of Adventur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d By Tom Palum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484440" cy="347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90720" y="51814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Mo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I explored the New Jersey sh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647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ue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mountain climbing had me huffing for m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67120" y="2666880"/>
            <a:ext cx="366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Wedne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safari arrived home real 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65680" y="2570040"/>
            <a:ext cx="1411200" cy="1716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81080" y="2798640"/>
            <a:ext cx="48006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Thurs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deep sea fishing put nothing on the p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5892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Fri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e’ll find a cave we can sc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8440" y="2738520"/>
            <a:ext cx="4641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aturday’s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 water skiing is definitely 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56236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f we don’t swim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Lucida Sans Unicode"/>
              </a:rPr>
              <a:t>Sunday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, I’ll surely pou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4647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7:48:59Z</dcterms:created>
  <dc:creator>Thomas J. Palumbo</dc:creator>
  <dc:description/>
  <dc:language>en-US</dc:language>
  <cp:lastModifiedBy>Tom Palumbo</cp:lastModifiedBy>
  <dcterms:modified xsi:type="dcterms:W3CDTF">2009-03-19T12:14:02Z</dcterms:modified>
  <cp:revision>14</cp:revision>
  <dc:subject/>
  <dc:title>A Week Of Adventures</dc:title>
</cp:coreProperties>
</file>